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F1F0-5B05-4449-8DEF-402E52C5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D307-3001-4F8D-B080-73939927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DA0FE-4078-4A28-9159-5685AB4C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03BEB-C5CF-478F-B742-2F7DAD56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98F7A-3EC4-45C2-B89D-8B4C9061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73FED-5A6A-401B-ADD2-92A714FF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22E82-A0C6-4B86-8351-3448D632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07B25-3298-43CF-8333-DAC5438E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D7659-AE6B-4D21-B9BE-026FAEA2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DDD86-1F95-4E26-A02F-0DE17D67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067AA-7030-4CA0-9193-469CADFF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8EA30-81D1-4548-9C48-5686E2A4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01D-FD6F-476E-94D1-C007C950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9E2E6-4851-4F85-90E9-2C8A109B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6182B-E28A-4009-97E0-83B2D751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BA1FE-4E70-45D8-9FA2-8529FDE2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9DA0F-25E4-4772-B050-A7C63921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A054E-0D1F-4EF9-A9D2-E9FC73C2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DC125-A631-4C21-80AE-B09DB9BF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D7BD4-80EA-46DA-9D84-8C17B514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4063B-FE11-48B6-9FC8-25C5617E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62DBC-D851-4A23-821B-5E2A7AAE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422A4-BC49-4FD2-AA89-4ED2B400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52CE-A3BB-445C-A7C2-CF16B3E6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5E44D-BDD5-4D41-BECB-89DFC7F4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4F2FE-6EDF-4582-915D-2FBAA7FA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E40A2-F6DF-4ED3-A1B0-59381540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27BB7-4E17-4337-8E9B-C2123B91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9D269-F2E7-47F9-9F8F-7F6069D0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C9B6D-5CA7-472C-BE9E-FF5C4C1B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C95EA-CE9A-46B1-8D87-B175DE8B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99E45-8C23-42EA-AACA-A568F33C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6AA21-E6A3-43E6-BEEA-FED109A7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F914E-137A-46E9-A632-B57A0C51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4291-20A3-4437-BC3A-FBFE78DD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E8731-5885-4419-A4A1-B218587E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43658-8095-43DD-B6F3-D2EA0398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F7A53-BF89-4FA4-A16F-45BE7CA7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3CE45-25F0-42C2-86A7-9CF9FB91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10447-D9AE-4019-9217-367DA4FA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D6ADC-3D34-42CC-8E15-97392A14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722EB-DC49-449C-9F1F-1D5665E3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95144-894D-4B03-8066-5A0E9715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697AA-2073-4D31-811C-ED89B4B0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E223A-6FC6-4CD1-AAEF-6E9FDB84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4E63-BB0A-4A40-8769-AA2986BC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586D4-C7BE-458E-A01D-0D7AB827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C4D01-4E57-43EC-8063-187C08A2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8CAA2-98D0-4FD1-A0AC-A75BB695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A4973-ED94-4ECD-B071-70541DD3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E59C5-48D5-4085-96EB-2560ACF2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490C7-5AEA-4FAE-B3FE-A742B873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B9CE9A-CBE4-4D72-B330-ACB0CE06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F4D54-D7EF-4069-A052-639B9C9D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F96BD-64C6-4011-8879-216926A1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5E108-B926-4C10-9D31-A4F54DA3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3D96-59B6-48EA-9313-656BF623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1C41D9-B526-4708-81C9-A7FE88BA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46F688-7CA8-44DB-BA8A-DE228A35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58D076-EED5-4AF8-B18D-29670D77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066E5A-F7C7-4E02-9D5A-D8446135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AB8482-8033-4F7E-8053-0D07B528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5BFE3-3768-409D-A24B-F2350665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659FA-E55E-46BA-90B3-2B34DEEF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ED41E-9398-430F-A20D-E3E0B9EB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0B8F36-E2CA-4B0A-9E87-11E4DED7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1D23A4-57C0-4600-8519-42F56D46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59E3-9FB6-4C1F-B64C-53482F15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419BF-5397-4BAB-870A-46604A1B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BB6522-FFE3-44E9-BBB6-055634CA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B4031-581F-49B7-91CA-27669B07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F1ACC6-9A66-42C5-B1C8-8A5223B9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1AB511-7719-427F-A995-E99536BD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AA665-EB1B-4FA3-9542-88445911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C20C45-8E14-4F33-9F8C-23D164BB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F965B-8DED-488B-B2F4-69A9AC99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24F809-BDB4-45E0-A3BF-497297FA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EA071E-D16E-4C2B-A84A-E72B14C1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69E1-EF0D-4762-B067-84FC9A2E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2B81F3-1C8B-4DD2-B5D7-35DBC737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00783-3DC2-441F-918A-898C6A45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132283-CF13-4B0D-BDED-1133084B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636078-3A85-4F03-9639-6362FD15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A6BD41-EA14-4A66-A969-11A1788D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3B4FB7-176A-4414-A0A5-4860DF98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855CD4-E37E-4E0B-A3F4-E34E7365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77031D-5AD6-41B8-A991-280CC56F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782AC1-C9DF-460F-B120-5173E3AF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8A6188-2C0B-46AF-B9FA-B0F7C5C4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22ED-3E57-4627-BAFF-F344B169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EEB0A9-8AAC-4F25-B54E-D0BD0EF0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7BF3CF-A103-47B2-9546-76766AE6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916936-D2C4-4E73-80F8-139C92A3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DA39F-24A2-49C5-9552-8D540154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7F06DC-F905-42B7-A7DE-57F8BA78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85242A-DA68-4594-AC0C-3F523F1A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C442F6-2BA9-4EEB-A2B1-D42C654D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39BDF-97CA-4AAA-B07C-4691EE27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9748AC-E94D-4C30-8DA9-70C5C4E2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2955FA-C402-46FE-8BFE-12EB5873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B9D7-8D23-4BFF-89C6-9D0608AE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C221D3-D1F8-4398-88EA-E7080810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454DC9-B726-4280-B83B-7E10AEF8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507BAD-C982-411D-8AAF-4B432268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EA5DDB-D1A0-415B-B3BA-99748AF3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BB410C-815B-452B-ACB2-0E7AC7D5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90FA03-D490-4107-AB60-DD0B5E86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010318-31A5-42F7-A324-1B07EAB3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CFDECE-C3E3-4534-955D-2F4DE9B7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968BE7-F2EF-4E8B-8EBE-DB99E6ED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C94A39-A523-4E09-8DD9-D3DF2CF6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004-F616-4423-B325-F472B851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4E5B-1FA1-40A3-A475-E46A1910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AF94EA-0C33-4DF1-A936-3541D57E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724CED-90C9-4CED-9840-EF5E1F78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0A1E8C-4209-49B0-8675-16013732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03D9CF-F1FE-4F79-9C00-417A0020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1227C5-A760-4124-9659-E3D99C85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9AFE00-9AE4-4ECB-8A5D-C6BB5928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A83E72-5560-4AD7-8C64-CCB78E85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E64E72-9AE4-4A45-B46D-F674C6BC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F1AEAD-D9C3-43FA-9C01-EB78DB31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461286-D473-45CF-AECE-FA05A5BF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DD61-D124-48CF-BD6A-2024E272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1CC71A-3089-4224-B6D7-03E003DE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1AD8FB-F849-47BB-A884-F0ABF855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0A899C-3E78-4A03-B9A8-DB18278A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B8EE86-2A05-4598-8FE2-D2EE2039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255C8D-58B7-4412-9AFE-936BD49B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6EE752-9D4B-4E7D-A12E-76F4CD46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CB3F63-97DB-4813-B055-57F8D6F8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D56795-41FA-4DE2-BDED-668FF4CB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67FF0B-8F4C-4BDB-89DE-0BB5F866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B7C7A6-CA94-4413-8A7C-20E53286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EA11-281A-4EC2-AF11-8D287155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B4E61E-33E0-418A-BD56-9D0F1875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729DF3-E277-47CF-8E98-694D14B7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604CD6-3548-4AC0-9466-884D0EB8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4F8403-5111-44F3-969D-13019547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77329E-A2DD-4B7B-80B5-6AD13683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651363-1FC0-4C95-8D4A-DC1D408C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FFF97B-D0A8-469A-ACB7-7901DD37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BBD812-3225-434A-B9A9-EA71D41F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A34B28-C40F-4162-90D1-ACD1A78C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04968A-A928-4DC4-999C-C6C598DD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BEEB-F89E-4DE0-8453-BCC20A4F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D3353A-6D01-4575-8D0A-C601F75A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10A049-A988-41F6-A6B4-8E616E9C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251218-7E65-4C38-9F9F-30A9AD96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F85457-65FE-4C92-B3B7-BF2DF7E5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ABC2DC-8CAC-4B63-8A43-5B7250C2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06E66A-7BD9-404D-AF9E-AFF5A956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21E2D5-5298-4DC4-B895-0A508BB3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5F772A-7DE2-4740-955E-E0262866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E592CE-A941-4517-AA0C-12E579BB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0CA7D9-183A-4185-9CB9-6C366CF6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7B77-E714-446A-875F-69C60E94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E7494D-8ECF-42A6-B83C-6565232D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A49558-A7A1-4A10-B893-B15E4252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4143C9-DF36-4B27-89DC-902B435D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CE05C8-AE4A-4D4D-BEDF-1CB92403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F1418B-9EB8-45EC-862A-C9EE01F2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E954B6-5320-4A5C-95A9-5EB9221C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C043EB-630A-42CF-9CC6-682CA957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1ACAAF-301B-47E7-8CF4-8A06A229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5F750A-434B-4589-ADEE-E3D84C1B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EF1646-9F3E-4C97-B618-375C986E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FF299-2145-4A33-B4E1-83797084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3D421D-10BF-4628-B375-1F93C302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886335-7C76-495D-B00B-C19C7DD0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727A73-B59F-4544-9A1F-A1EB3F2D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D7694-FDA6-4EE0-A051-220E2CAA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D0978-B1BD-48CD-8199-25FE55C3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EFA76-38AB-4B2B-8ACF-6761DC51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4FFC0-38DE-407C-8E5D-9A32C380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F7E8-5675-4392-9331-D5901322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7C924-7C9A-4E88-B867-9E47152B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CDA0B-0EF7-4C69-B0F3-14766556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F5975-F3CF-47B3-8C9B-0604953F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F819F-BF5C-41CA-B73A-B96ACADB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36DB6-9616-4748-B6F7-4F8FA58C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2591C-9C8E-4723-A9A9-9A19E791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A6D0E-7967-4BBD-A8F0-3E2DD8B5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61FD0-B4EA-4855-B76A-06491348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5FEE3-9FF7-45BD-92B3-62E12A2E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A793A-1F39-460C-822A-CDD4C733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A33-1D61-486C-BE9E-5088DFFC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41B52-F174-4A99-8DDB-517C2BCB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1CE75-4A2F-4F21-ABBE-16C5EA87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E5FB6-8F9D-45DB-868D-6B77DDB0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4C052-AA9F-4F34-9B26-8821E7A7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7409F-AF2C-469D-8E6F-D597E505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94EF4-13A9-48AE-89EB-006837E2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FEB38-E3E7-4A18-9859-84686358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CFB60-81C0-4F00-8193-62B16DEB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C1D85-43F3-42D9-B5F5-8E0908D2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642B0-0928-4685-B22B-29F55202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CF28-8C62-4504-A2EF-F8F63A7C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C8943-4B8D-4DF2-AC6C-A4F1369B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E7152-90DA-4327-80EA-99FA5FA5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25EBA-5F61-4D32-A387-78302997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DE23F-6B64-420E-8BD4-02F3257C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CA3D8-6F47-42AF-B894-37479CF9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0A555-F0FD-41DD-B7E6-52B3F534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CFC2B-0D29-4FD5-AD66-4826BA01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00BBA-DD3A-481B-A23F-1E4A34E8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2C668-8EA8-49D1-BD47-205FC678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8F71F-D0E7-4244-8963-7E6ACA5B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66A-C4DE-4A79-8BC6-455870E4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BDD4F-DF1C-4508-A836-26982401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46239-F53A-4D79-9F64-42F7264B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8F738-CC54-4322-AA1E-0615C7AA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17B57-065E-4C6F-A15B-24AECB71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93DB7-DD32-4C2F-97FE-E0EBB414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8C16E-14CB-4E12-AEB8-5D8E9187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C7258-4A15-4A76-807E-26A57ABD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A1F81-2015-4C83-9DE2-377051A5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71FD9-2DB3-4F24-8EAD-9085B5FD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DEC1E-EB61-4632-8242-A7597162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F02-7A2E-482A-B24E-6A470E80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800FC-BED9-423E-BF44-FA9709C5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E80C6-2BB9-4288-9482-948BC0A2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9EEAA-0B1D-43DD-A465-BD55234E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E5022-621B-4A4C-8A59-75203754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BDB93-07F8-400D-994B-AB041DCA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46DCF-DE7A-4E07-8EBD-F1DABF22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F66B9-9CE6-46E7-A2DE-6EA812FA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E90A0-8310-459F-BF7C-BB10DCCB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4159D-D898-4803-8967-00E9F324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5C3CE-018D-45D4-9800-80CD2E51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1EE5-B4B7-45CE-9BD3-D7E225F2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41326-61B2-46B7-A399-62DBC58C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46A71-3888-433F-8571-3507A924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AC9B0-E1BA-433C-AE2B-F70A4175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8AA8A-40E2-4CB1-AD88-F080170D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3079A-C255-45C2-892F-F4DEC033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4B551-16DA-4F02-90E1-1DBB961C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46E7D-5620-4475-B7AD-CA5E4714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601D3-DDE3-4FAC-9E4B-2EE58A62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CA735-F7CC-40A8-AB06-2598188D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C9EE1-3AA5-4244-863A-6E1627CD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CB09-642F-413B-BE1B-502F0366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881EB-9CE6-426A-A3B3-A9D5DE93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EF3BB-B3AB-4057-A621-C6E86499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67E39-C301-40C7-A2D7-B67F246B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2BDD2-FC01-43A6-BDDB-B85FB6F2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3911F-22FA-4C4A-A71A-82223D56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06C45-D32A-49DF-A8F1-068875EB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A7007-9EB3-4DCD-AA21-4D4CE86F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C4193-2C56-4E4E-BF43-9D6E2C1D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6AFCB-02AE-454B-A235-66686824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5CABC-881E-4221-8394-ECE24CCD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4D7B-5DE7-4914-A221-10EA98E59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5238-B406-410B-A5B0-4108435BBC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083E-ED02-4A48-BA51-E6D84DA4C9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0AFF-A444-44A1-89DB-716CFE9015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36FE-0FCB-461D-88BE-8B4D81817F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3BB1-3C89-4B31-BE50-4897316E06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6B8E-8583-457E-AB6B-B4AFE5A76A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145F-2EBA-4309-BE61-A8BC3209C7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7798-9092-4FB0-8CBB-73C3D16977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D0CC-2D90-45DC-BF7F-6C1D376E9F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B0B3-D5A4-4BFF-A9BE-9A5956BA29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9479-D3F0-4030-BF85-4039F1F514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F17E-DE46-4165-BB0B-7EBAF2955D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E0B7-5F9A-45DA-89ED-208F019D0F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6E4F-07E9-4BC1-8693-77111991DD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DC59-3B84-4817-AF15-109607C887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BDD4-5478-4987-ADF5-31D1E8779C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E67B-018A-43B0-BDB6-D1BB6C6901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2BC2-C766-4830-A334-645EB92D07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AFE8-AEF8-44ED-A3EB-1E3AC2EC84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6E29-BF2B-4ABA-A005-B348211D4C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FDDC-A15C-418E-B114-5967591685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52E8-DE22-46DE-9FE4-C86B65CFE9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2D0B-A180-48A6-B821-2893F05729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821F-F700-4175-9DCA-AAC0EF6DBB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13BF-3B19-445E-B880-2A7B902259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3831-8644-41C0-9C8A-0EA68F1814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7BEC-06E7-4424-997C-A2BD2823C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6137-2D93-449D-A5F7-C22F2CF437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ECF7-121D-4362-8BEF-DD67E8B840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15FE-FBED-499F-81D3-37D28A93AA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5B08-24AE-4A0A-868D-0EBFECA250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2938-85DA-4113-A786-DF05360BB5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5A29-683D-4901-A559-6DF9641DFA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28C5-54A1-46EE-A90F-B4658DC42D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B617-2825-4F22-9EEF-A2304499A4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75F8-4410-4573-8FF0-90D58D4630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0F55-4769-4D01-AAB8-02783CED6D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D2E5-A3DD-455E-8E0E-82B5531BC3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3132-A3CD-44A3-8F75-A5AC7916D6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066680" y="3119400"/>
            <a:ext cx="7010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57200" y="857160"/>
            <a:ext cx="8229600" cy="514368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857160" y="235728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857160" y="421488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419040" y="1181160"/>
            <a:ext cx="8305920" cy="449568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928800" y="121428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857160" y="250020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4"/>
          <p:cNvSpPr/>
          <p:nvPr/>
        </p:nvSpPr>
        <p:spPr>
          <a:xfrm>
            <a:off x="857160" y="342900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8239320" cy="33526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2" descr=""/>
          <p:cNvPicPr/>
          <p:nvPr/>
        </p:nvPicPr>
        <p:blipFill>
          <a:blip r:embed="rId2"/>
          <a:stretch/>
        </p:blipFill>
        <p:spPr>
          <a:xfrm>
            <a:off x="642960" y="4429080"/>
            <a:ext cx="8134200" cy="1266840"/>
          </a:xfrm>
          <a:prstGeom prst="rect">
            <a:avLst/>
          </a:prstGeom>
          <a:ln w="0">
            <a:noFill/>
          </a:ln>
        </p:spPr>
      </p:pic>
      <p:sp>
        <p:nvSpPr>
          <p:cNvPr id="1032" name="矩形 3"/>
          <p:cNvSpPr/>
          <p:nvPr/>
        </p:nvSpPr>
        <p:spPr>
          <a:xfrm>
            <a:off x="5392800" y="1560600"/>
            <a:ext cx="1571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3786120" y="2357280"/>
            <a:ext cx="1714680" cy="478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5"/>
          <p:cNvSpPr/>
          <p:nvPr/>
        </p:nvSpPr>
        <p:spPr>
          <a:xfrm>
            <a:off x="5072040" y="3286080"/>
            <a:ext cx="128592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6858000" y="4357800"/>
            <a:ext cx="1071720" cy="407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6" name="Picture 4" descr=""/>
          <p:cNvPicPr/>
          <p:nvPr/>
        </p:nvPicPr>
        <p:blipFill>
          <a:blip r:embed="rId3"/>
          <a:stretch/>
        </p:blipFill>
        <p:spPr>
          <a:xfrm>
            <a:off x="5500800" y="5715000"/>
            <a:ext cx="1809720" cy="123840"/>
          </a:xfrm>
          <a:prstGeom prst="rect">
            <a:avLst/>
          </a:prstGeom>
          <a:ln w="0">
            <a:noFill/>
          </a:ln>
        </p:spPr>
      </p:pic>
      <p:sp>
        <p:nvSpPr>
          <p:cNvPr id="1037" name="矩形 11"/>
          <p:cNvSpPr/>
          <p:nvPr/>
        </p:nvSpPr>
        <p:spPr>
          <a:xfrm>
            <a:off x="5715000" y="5286240"/>
            <a:ext cx="1214280" cy="408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533520" y="1857240"/>
            <a:ext cx="8076960" cy="3143520"/>
          </a:xfrm>
          <a:prstGeom prst="rect">
            <a:avLst/>
          </a:prstGeom>
          <a:ln w="0">
            <a:noFill/>
          </a:ln>
        </p:spPr>
      </p:pic>
      <p:sp>
        <p:nvSpPr>
          <p:cNvPr id="1039" name="矩形 2"/>
          <p:cNvSpPr/>
          <p:nvPr/>
        </p:nvSpPr>
        <p:spPr>
          <a:xfrm>
            <a:off x="2428920" y="278604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3"/>
          <p:cNvSpPr/>
          <p:nvPr/>
        </p:nvSpPr>
        <p:spPr>
          <a:xfrm>
            <a:off x="3500280" y="2786040"/>
            <a:ext cx="1571760" cy="379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4"/>
          <p:cNvSpPr/>
          <p:nvPr/>
        </p:nvSpPr>
        <p:spPr>
          <a:xfrm>
            <a:off x="5715000" y="2786040"/>
            <a:ext cx="11793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"/>
          <p:cNvSpPr/>
          <p:nvPr/>
        </p:nvSpPr>
        <p:spPr>
          <a:xfrm>
            <a:off x="7143840" y="278604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"/>
          <p:cNvSpPr/>
          <p:nvPr/>
        </p:nvSpPr>
        <p:spPr>
          <a:xfrm>
            <a:off x="3786120" y="4143240"/>
            <a:ext cx="1571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7"/>
          <p:cNvSpPr/>
          <p:nvPr/>
        </p:nvSpPr>
        <p:spPr>
          <a:xfrm>
            <a:off x="6000840" y="4143240"/>
            <a:ext cx="19288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519120" y="1185840"/>
            <a:ext cx="8105760" cy="4486320"/>
          </a:xfrm>
          <a:prstGeom prst="rect">
            <a:avLst/>
          </a:prstGeom>
          <a:ln w="0">
            <a:noFill/>
          </a:ln>
        </p:spPr>
      </p:pic>
      <p:sp>
        <p:nvSpPr>
          <p:cNvPr id="1046" name="矩形 2"/>
          <p:cNvSpPr/>
          <p:nvPr/>
        </p:nvSpPr>
        <p:spPr>
          <a:xfrm>
            <a:off x="4643280" y="1643040"/>
            <a:ext cx="12146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3"/>
          <p:cNvSpPr/>
          <p:nvPr/>
        </p:nvSpPr>
        <p:spPr>
          <a:xfrm>
            <a:off x="6143760" y="1643040"/>
            <a:ext cx="892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4"/>
          <p:cNvSpPr/>
          <p:nvPr/>
        </p:nvSpPr>
        <p:spPr>
          <a:xfrm>
            <a:off x="7429680" y="164304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5"/>
          <p:cNvSpPr/>
          <p:nvPr/>
        </p:nvSpPr>
        <p:spPr>
          <a:xfrm>
            <a:off x="700200" y="2092320"/>
            <a:ext cx="10713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6"/>
          <p:cNvSpPr/>
          <p:nvPr/>
        </p:nvSpPr>
        <p:spPr>
          <a:xfrm>
            <a:off x="3643200" y="3000240"/>
            <a:ext cx="11430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7"/>
          <p:cNvSpPr/>
          <p:nvPr/>
        </p:nvSpPr>
        <p:spPr>
          <a:xfrm>
            <a:off x="1000080" y="3500280"/>
            <a:ext cx="7858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8"/>
          <p:cNvSpPr/>
          <p:nvPr/>
        </p:nvSpPr>
        <p:spPr>
          <a:xfrm>
            <a:off x="5511960" y="4854600"/>
            <a:ext cx="1143000" cy="380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9"/>
          <p:cNvSpPr/>
          <p:nvPr/>
        </p:nvSpPr>
        <p:spPr>
          <a:xfrm>
            <a:off x="7072200" y="4857840"/>
            <a:ext cx="12859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480960" y="790560"/>
            <a:ext cx="8182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495360" y="2343240"/>
            <a:ext cx="81532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528480" y="833400"/>
            <a:ext cx="8087040" cy="5191200"/>
          </a:xfrm>
          <a:prstGeom prst="rect">
            <a:avLst/>
          </a:prstGeom>
          <a:ln w="0">
            <a:noFill/>
          </a:ln>
        </p:spPr>
      </p:pic>
      <p:sp>
        <p:nvSpPr>
          <p:cNvPr id="1057" name="矩形 2"/>
          <p:cNvSpPr/>
          <p:nvPr/>
        </p:nvSpPr>
        <p:spPr>
          <a:xfrm>
            <a:off x="857160" y="1428840"/>
            <a:ext cx="465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4"/>
          <p:cNvSpPr/>
          <p:nvPr/>
        </p:nvSpPr>
        <p:spPr>
          <a:xfrm>
            <a:off x="928800" y="2286000"/>
            <a:ext cx="465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5"/>
          <p:cNvSpPr/>
          <p:nvPr/>
        </p:nvSpPr>
        <p:spPr>
          <a:xfrm>
            <a:off x="785880" y="3286080"/>
            <a:ext cx="465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6"/>
          <p:cNvSpPr/>
          <p:nvPr/>
        </p:nvSpPr>
        <p:spPr>
          <a:xfrm>
            <a:off x="928800" y="4214880"/>
            <a:ext cx="465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7"/>
          <p:cNvSpPr/>
          <p:nvPr/>
        </p:nvSpPr>
        <p:spPr>
          <a:xfrm>
            <a:off x="857160" y="5072040"/>
            <a:ext cx="465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28:5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